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D6A-4CF2-4E75-B895-392120D8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7EE-23EE-41FC-8FFF-4295605B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0FA-A9DE-4836-B09A-6B5BECEC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757-EF43-4F52-B736-464D1708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B4A-124E-4B87-B95F-965A6AC1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BD4-C0EB-4C78-B8C0-23EC57C9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F71-3A8E-4A96-B0A6-5B723807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679-1A4F-441B-B792-697EEAD5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C8C-A820-4091-BA42-033BD573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FE9-2BEF-44E6-BF03-676748E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6B1-7B80-4300-B315-D65D701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AC4-60D6-4C0E-8E45-42629FF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9C7D-E5B0-4C20-B208-2292AD709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sborne.es/" TargetMode="External"/><Relationship Id="rId2" Type="http://schemas.openxmlformats.org/officeDocument/2006/relationships/hyperlink" Target="http://www.osborne.es/" TargetMode="External"/><Relationship Id="rId3" Type="http://schemas.openxmlformats.org/officeDocument/2006/relationships/hyperlink" Target="http://www.osborne.es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89000"/>
            <a:ext cx="806436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Cómo se dice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fect / imperfect 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 was travelling (viaj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e are meeting (quedarnos- the nos goes after the formed verb, accent on last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he was arguing (debat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 said (decir- IRREGULAR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he responded (respo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e watched (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1341360"/>
            <a:ext cx="3095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a viaj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quedánd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a debat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ond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v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55736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revise using the present and imperfect continuous, and the prete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read about what forms publicity comes in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decide how effective adver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look at the effect of celebrities in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watch some adverts and see why they are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63280" y="1844640"/>
            <a:ext cx="5543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33cc33"/>
                </a:solidFill>
                <a:latin typeface="Tahoma"/>
              </a:rPr>
              <a:t>El mercado publicitario invierte 12.846,30 millones de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Los medios convencionales  como radio, cine, televisión, diarios, dominicales, revistas, Internet, exterior (cabinas, luminosos, etc) representan un 47.9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Los medios no convencionales como el buzoneo, catálogos, promociones, ferias, patrocinios, publicidad de móvil etc. representan un 52.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1657440" cy="95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92720" y="5300640"/>
            <a:ext cx="1795320" cy="134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64360" y="2205000"/>
            <a:ext cx="1793880" cy="61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124000" y="5300640"/>
            <a:ext cx="1863720" cy="137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1622160" cy="14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164360" y="3500280"/>
            <a:ext cx="1797120" cy="995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752480" y="685800"/>
            <a:ext cx="5616720" cy="49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Vrinda"/>
              </a:rPr>
              <a:t>la publicidad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Vrinda"/>
              <a:ea typeface="Vrind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7640" y="-608040"/>
            <a:ext cx="916812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1773360"/>
            <a:ext cx="8915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 los 4.922 anuncios de TV diarios los espectadores sólo ven 7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Un 80% de la inversión publicitaria en radio se concentra en tres grupos: Ser, Cope y Onda C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ine es un medio para incluir imágenes de productos prohibidos en televisión (bebidas alcohólicas o tabaco) y negocios del bar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Zara, Mercadona y Aquarius han demostrado que la publicidad es prescindible. Su éxito comercial abre el debate sobre la eficacia de la comunicación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4920" y="0"/>
            <a:ext cx="8838720" cy="1612440"/>
            <a:chOff x="304920" y="0"/>
            <a:chExt cx="8838720" cy="1612440"/>
          </a:xfrm>
        </p:grpSpPr>
        <p:sp>
          <p:nvSpPr>
            <p:cNvPr id="56" name=""/>
            <p:cNvSpPr txBox="1"/>
            <p:nvPr/>
          </p:nvSpPr>
          <p:spPr>
            <a:xfrm>
              <a:off x="4076640" y="698400"/>
              <a:ext cx="1066320" cy="76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Impact"/>
                </a:rPr>
                <a:t>dato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  <a:ea typeface="Impact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304920" y="0"/>
              <a:ext cx="8838720" cy="1612440"/>
              <a:chOff x="304920" y="0"/>
              <a:chExt cx="8838720" cy="1612440"/>
            </a:xfrm>
          </p:grpSpPr>
          <p:sp>
            <p:nvSpPr>
              <p:cNvPr id="58" name=""/>
              <p:cNvSpPr txBox="1"/>
              <p:nvPr/>
            </p:nvSpPr>
            <p:spPr>
              <a:xfrm>
                <a:off x="2469960" y="0"/>
                <a:ext cx="4463640" cy="1079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ccff"/>
                    </a:solidFill>
                    <a:latin typeface="Trebuchet MS"/>
                  </a:rPr>
                  <a:t>la publicidad</a:t>
                </a:r>
                <a:endParaRPr b="0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ccff"/>
                  </a:solidFill>
                  <a:latin typeface="Trebuchet MS"/>
                  <a:ea typeface="Trebuchet MS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304920" y="12600"/>
                <a:ext cx="8838720" cy="1599840"/>
                <a:chOff x="304920" y="12600"/>
                <a:chExt cx="8838720" cy="1599840"/>
              </a:xfrm>
            </p:grpSpPr>
            <p:pic>
              <p:nvPicPr>
                <p:cNvPr id="6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80000" y="51840"/>
                  <a:ext cx="1763640" cy="156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4920" y="12600"/>
                  <a:ext cx="1828440" cy="159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4360" y="5229360"/>
            <a:ext cx="228096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211640" y="4941720"/>
            <a:ext cx="119700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588000" y="5300640"/>
            <a:ext cx="1692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14720" y="-2017800"/>
            <a:ext cx="4714560" cy="9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752480" y="347760"/>
            <a:ext cx="5616720" cy="490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Verdana"/>
              </a:rPr>
              <a:t>más que anunci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Verdana"/>
              <a:ea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573360"/>
            <a:ext cx="46800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El toro de </a:t>
            </a:r>
            <a:r>
              <a:rPr b="0" lang="es-ES_tradnl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Osborne</a:t>
            </a:r>
            <a:r>
              <a:rPr b="0" lang="es-ES_tradnl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</a:t>
            </a:r>
            <a:r>
              <a:rPr b="1" lang="es-ES_tradnl" sz="2400" spc="-1" strike="noStrike">
                <a:solidFill>
                  <a:srgbClr val="99cc00"/>
                </a:solidFill>
                <a:latin typeface="Tahoma"/>
              </a:rPr>
              <a:t>es la única valla publicitaria situada fuera de la ciudad, que puede considerarse perteneciente al paisaje na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cc00"/>
                </a:solidFill>
                <a:latin typeface="Tahoma"/>
              </a:rPr>
              <a:t>Ahora se considera un s</a:t>
            </a:r>
            <a:r>
              <a:rPr b="1" lang="es-ES_tradnl" sz="2400" spc="-1" strike="noStrike">
                <a:solidFill>
                  <a:srgbClr val="99cc00"/>
                </a:solidFill>
                <a:latin typeface="Tahoma"/>
                <a:ea typeface="Tahoma"/>
              </a:rPr>
              <a:t>ímbol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55640" y="1484280"/>
            <a:ext cx="2282760" cy="307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995640" y="1268280"/>
            <a:ext cx="2057400" cy="1731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3640" y="3068640"/>
            <a:ext cx="2408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99cc00"/>
                </a:solidFill>
                <a:latin typeface="Tahoma"/>
              </a:rPr>
              <a:t>www.jorgetutor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79280" y="-241200"/>
            <a:ext cx="9102600" cy="64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04000" y="1413000"/>
            <a:ext cx="1523880" cy="2152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16360" y="3572280"/>
            <a:ext cx="442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cc00"/>
                </a:solidFill>
                <a:latin typeface="Tahoma"/>
              </a:rPr>
              <a:t>Campaña de Amnistía Internacional contra la homofobia y represión homosexual con fotos de famosos relacionados con la homosexualidad</a:t>
            </a:r>
            <a:r>
              <a:rPr b="1" lang="es-ES_tradnl" sz="2000" spc="-1" strike="noStrike">
                <a:solidFill>
                  <a:srgbClr val="bbe0e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03280" y="114480"/>
            <a:ext cx="639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s famosos invaden la publicidad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5661000"/>
            <a:ext cx="59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cc00"/>
                </a:solidFill>
                <a:latin typeface="Tahoma"/>
              </a:rPr>
              <a:t>“</a:t>
            </a:r>
            <a:r>
              <a:rPr b="1" lang="es-ES_tradnl" sz="2000" spc="-1" strike="noStrike">
                <a:solidFill>
                  <a:srgbClr val="99cc00"/>
                </a:solidFill>
                <a:latin typeface="Tahoma"/>
              </a:rPr>
              <a:t>Los Serrano” es una de las series más vistas en España y en la que se pueden ver hasta 21 productos diferentes por em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50028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cc00"/>
                </a:solidFill>
                <a:latin typeface="Tahoma"/>
              </a:rPr>
              <a:t>Beckham es el rey de la publicidad (Pepsi, Gillete, Vodafone) ingresando 18 mill. € (el 73% de su sue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1341360" cy="201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92280"/>
            <a:ext cx="88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66cc"/>
                </a:solidFill>
                <a:latin typeface="Arial"/>
              </a:rPr>
              <a:t>LA PRESENCIA DE FAMOSOS EN PUBLICIDAD HA AUMENADO UN 400%  EN LOS ULTIMOS 10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2:10:26Z</dcterms:created>
  <dc:creator>Owner1</dc:creator>
  <dc:description/>
  <dc:language>en-US</dc:language>
  <cp:lastModifiedBy>Owner1</cp:lastModifiedBy>
  <dcterms:modified xsi:type="dcterms:W3CDTF">2008-11-14T12:24:33Z</dcterms:modified>
  <cp:revision>2</cp:revision>
  <dc:subject/>
  <dc:title>Slide 1</dc:title>
</cp:coreProperties>
</file>